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7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BEE6B-BC82-44AA-860F-D1461908F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8119C-68AA-43C3-91EC-6B1E60C42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129A8-D8D8-46F5-99CE-B9BDDCE91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98EED-A7FE-47A4-9FD5-F9DDDF53F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A8E48-19A2-4DF2-A4A1-E83F35148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B8984-CA87-43A1-9932-A80E56E55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8F171-F1E0-42A7-9E90-A59F1D89E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4B7F8-C21D-4AD7-B326-E5424189B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5210B-7769-42C9-9237-71676C1A5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D3C52-8D8E-459D-B74C-9CE6E8871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78A94-618F-4C7D-975E-30FC05890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26B53-634B-4FFE-9509-DD604B54D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DA951-39D3-4F0A-BDBA-D3A479176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821C3-171F-4EBF-9CCB-A89574719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75159-CE2F-4DE1-BDBE-0D412CBDB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36DC3-7957-4C66-84AB-33662FA63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A154F-2335-431E-BA7D-D1C375D06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83173-9683-46F7-BACD-BBE82EB05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7F889-49DA-4B90-B590-0B47D9B60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C2C2D-4F66-4F85-86C4-C944D77FD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6115E-BDBB-42C7-8C75-31E9A970D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6F075-BB1A-4271-9176-9CE8A6834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5D8A1-BEE3-4498-AF52-065F49D0B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898B2-51EF-493B-89E5-AD6BB1118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762f"/>
            </a:gs>
            <a:gs pos="100000">
              <a:srgbClr val="ffff66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427B3-5028-4F6A-B6E3-BF4E77E4F8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762f"/>
            </a:gs>
            <a:gs pos="100000">
              <a:srgbClr val="ffff66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E4848-7088-4F5B-BBF0-A74B7178EBCB}" type="slidenum">
              <a:rPr b="0" lang="sr-Latn-C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medf.kg.ac.yu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78920" y="1628640"/>
            <a:ext cx="87138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нергетски  метаболизам и физиологија исхран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Title 3"/>
          <p:cNvSpPr/>
          <p:nvPr/>
        </p:nvSpPr>
        <p:spPr>
          <a:xfrm>
            <a:off x="324000" y="189000"/>
            <a:ext cx="640872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Факултет м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едицински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х наук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у Крагујевцу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ОСНОВНЕ СТРУКОВНЕ СТУДИЈЕ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Физиологиј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6643800" y="5573880"/>
            <a:ext cx="2500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5" descr=""/>
          <p:cNvPicPr/>
          <p:nvPr/>
        </p:nvPicPr>
        <p:blipFill>
          <a:blip r:embed="rId1"/>
          <a:stretch/>
        </p:blipFill>
        <p:spPr>
          <a:xfrm>
            <a:off x="1908000" y="2997360"/>
            <a:ext cx="4000680" cy="361944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7"/>
          <p:cNvSpPr/>
          <p:nvPr/>
        </p:nvSpPr>
        <p:spPr>
          <a:xfrm>
            <a:off x="5902200" y="5373720"/>
            <a:ext cx="313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атедра за физиологиј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ВЕЖБА 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9" descr="mf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070840" y="0"/>
            <a:ext cx="107316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0" y="115920"/>
            <a:ext cx="9144000" cy="674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1. б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зрачунавање 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A (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нергија за физичку активност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EFA (енергија за физичку активност) се израчунава множењем енергетске потрошње за одговарајућу врсту физичке активности (према тежини) са очекиваним временом трајање дате активности (табела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имер: 5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лаког рада (5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20kcal) + 1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умереног рада (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300 kcal)= 600+300 = 900kcal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Object 4"/>
          <p:cNvGraphicFramePr/>
          <p:nvPr/>
        </p:nvGraphicFramePr>
        <p:xfrm>
          <a:off x="225360" y="692280"/>
          <a:ext cx="8918640" cy="8977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5360" y="692280"/>
                    <a:ext cx="8918640" cy="897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0" y="476280"/>
            <a:ext cx="9144000" cy="57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1.в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зрачунавање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TEF (термички ефекат хране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TEF (термички ефекат хране) износи око 10% енергетске вредности хране, односно за 10% треба увећати потребну енергетску вредност (</a:t>
            </a: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Times New Roman"/>
              </a:rPr>
              <a:t>множити са 1.1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Пример: за задовољавање дневних енергетских потреба од 200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kcal треба унети 220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kcal да би нето ефекат био 200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kcal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ко сада применимо формул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EP = RMR + EFA + TEF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, добија се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1920 + 900)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1.1 = 310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kcal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дносно дневне енергетске потребе (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EP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) износе око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310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kcal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6"/>
          <p:cNvSpPr/>
          <p:nvPr/>
        </p:nvSpPr>
        <p:spPr>
          <a:xfrm>
            <a:off x="285840" y="5241960"/>
            <a:ext cx="86104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6"/>
          <p:cNvSpPr/>
          <p:nvPr/>
        </p:nvSpPr>
        <p:spPr>
          <a:xfrm>
            <a:off x="0" y="1343880"/>
            <a:ext cx="9144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ма препорученим стандардим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RDA, Recommended Dietary Allowance)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нергија пот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на за дневну потрошњу треба да буде обезбеђена из хранљивих материја у следећем однос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50-55%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дневног енергетског уноса из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гљених хидра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-30%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дневног енергетског уноса из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а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ко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0%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дневног енергетског уноса из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теин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од одраслих особа потребе за беланчевинама износ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8 g/kg TM/2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од деце потребе за беланчевинама износ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-3 g/kg TM/2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7"/>
          <p:cNvSpPr/>
          <p:nvPr/>
        </p:nvSpPr>
        <p:spPr>
          <a:xfrm>
            <a:off x="0" y="404640"/>
            <a:ext cx="9144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500" spc="-1" strike="noStrike">
                <a:solidFill>
                  <a:srgbClr val="000000"/>
                </a:solidFill>
                <a:latin typeface="Times New Roman"/>
              </a:rPr>
              <a:t>Фаза</a:t>
            </a:r>
            <a:r>
              <a:rPr b="1" i="1" lang="sr-Latn-C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5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sr-Latn-C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5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sr-Latn-CS" sz="2500" spc="-1" strike="noStrike">
                <a:solidFill>
                  <a:srgbClr val="000000"/>
                </a:solidFill>
                <a:latin typeface="Times New Roman"/>
              </a:rPr>
              <a:t> Одређивање потребних количина појединих врста 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sr-Latn-CS" sz="2500" spc="-1" strike="noStrike">
                <a:solidFill>
                  <a:srgbClr val="000000"/>
                </a:solidFill>
                <a:latin typeface="Times New Roman"/>
              </a:rPr>
              <a:t>хранљивих материја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Calibri"/>
              </a:rPr>
              <a:t>Препоручује се унос</a:t>
            </a:r>
            <a:r>
              <a:rPr b="1" lang="sr-Latn-CS" sz="36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0" y="981000"/>
            <a:ext cx="8820000" cy="544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0000"/>
                </a:solidFill>
                <a:latin typeface="Calibri"/>
              </a:rPr>
              <a:t>Протеина</a:t>
            </a:r>
            <a:r>
              <a:rPr b="0" lang="sr-CS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животињског порекл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пуновредни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комплетни протеини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0000"/>
                </a:solidFill>
                <a:latin typeface="Calibri"/>
              </a:rPr>
              <a:t>Липиди</a:t>
            </a:r>
            <a:r>
              <a:rPr b="0" lang="sr-CS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биљног порекл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Дневни унос масти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треба да омогући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избалансирани однос масних киселин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са доминантним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учешћем незасићених масних киселин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уз потребан унос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есенцијалних масних киселин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по могућству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n-3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масних киселин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ff0000"/>
                </a:solidFill>
                <a:latin typeface="Calibri"/>
              </a:rPr>
              <a:t>Холестерола</a:t>
            </a:r>
            <a:r>
              <a:rPr b="0" lang="sr-CS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до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300 mg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дневн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30 g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ff0000"/>
                </a:solidFill>
                <a:latin typeface="Calibri"/>
              </a:rPr>
              <a:t>дијететских влака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Минимум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1500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2000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ml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ff0000"/>
                </a:solidFill>
                <a:latin typeface="Calibri"/>
              </a:rPr>
              <a:t>вод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Минимални унос</a:t>
            </a:r>
            <a:r>
              <a:rPr b="0" lang="sr-CS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NaCl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0.5-2g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дневно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179280" y="260280"/>
            <a:ext cx="885672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Пример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Rectangle 4"/>
          <p:cNvSpPr/>
          <p:nvPr/>
        </p:nvSpPr>
        <p:spPr>
          <a:xfrm>
            <a:off x="0" y="831240"/>
            <a:ext cx="9144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Из 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угљених хидрат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треба обезбедити 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55%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потребне енергије, што на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310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kcal износи 170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kc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Како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g угљених хидрата обезбеђује 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kcal, потребно је унет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укупно </a:t>
            </a:r>
            <a:r>
              <a:rPr b="1" lang="sr-Latn-CS" sz="2400" spc="-1" strike="noStrike" u="sng">
                <a:solidFill>
                  <a:srgbClr val="000000"/>
                </a:solidFill>
                <a:uFillTx/>
                <a:latin typeface="Times New Roman"/>
              </a:rPr>
              <a:t>426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sr-Latn-C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</a:t>
            </a: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угљених хидрат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Из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маст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треба обезбедити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25%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потребне енергије, што на 310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kcal износи 77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kc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Како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g масти обезбеђује 9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kcal, потребно је унети укупн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 u="sng">
                <a:solidFill>
                  <a:srgbClr val="000000"/>
                </a:solidFill>
                <a:uFillTx/>
                <a:latin typeface="Arial"/>
              </a:rPr>
              <a:t>86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Arial"/>
              </a:rPr>
              <a:t>маст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Из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протеин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треба обезбедити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20%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потребне енергије, што на 310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kcal износи 62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kc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Како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g протеина обезбеђује 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kcal, потребно је унети укупно </a:t>
            </a:r>
            <a:r>
              <a:rPr b="1" lang="sr-Latn-CS" sz="2400" spc="-1" strike="noStrike" u="sng">
                <a:solidFill>
                  <a:srgbClr val="000000"/>
                </a:solidFill>
                <a:uFillTx/>
                <a:latin typeface="Arial"/>
              </a:rPr>
              <a:t>155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sr-Latn-C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</a:t>
            </a: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Arial"/>
              </a:rPr>
              <a:t> протеин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395280" y="620280"/>
            <a:ext cx="856944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400" spc="-1" strike="noStrike">
                <a:solidFill>
                  <a:srgbClr val="000000"/>
                </a:solidFill>
                <a:latin typeface="Arial"/>
              </a:rPr>
              <a:t>Фаза 3 – Одређивање састава дневног обро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Израчунате потребне вредности хранљивих материја се распоређују у жељени број оброка), водећи рачуна о њихом садржају у појединим врстама намирниц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Посебно треба проверити колико изабране намирнице задовољавају потребе за дневним уносом витамина и минерала и направити (евентуалне) корекције њиховог унос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Треба проверити и квалитет изабраних намирница у смислу количина есенцијалних аминокиселина и есенцијалних масти, односа засићених и незасићених масних киселина, врсте угљених хидрата, количине дијететских влакана и холестерола..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5"/>
          <p:cNvSpPr/>
          <p:nvPr/>
        </p:nvSpPr>
        <p:spPr>
          <a:xfrm>
            <a:off x="179280" y="333360"/>
            <a:ext cx="4178520" cy="63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CirilicaTimes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стављање дневног оброка је значајно олакшано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финисањем седам основних група намирница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леб и житарице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поручује се око 6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зумирања дневно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изводи од меса и јај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поручује се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-3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зумирањ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невно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рће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поручује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-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зумирањ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невно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ће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поручује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-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зумирањ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невно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леко и млечни производи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поручује се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-4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зумирања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невно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ткиши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истити умерено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!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сти и уљ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истити умерено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!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8" descr="piramidaishrane"/>
          <p:cNvPicPr/>
          <p:nvPr/>
        </p:nvPicPr>
        <p:blipFill>
          <a:blip r:embed="rId1"/>
          <a:stretch/>
        </p:blipFill>
        <p:spPr>
          <a:xfrm>
            <a:off x="4429080" y="642960"/>
            <a:ext cx="4535640" cy="46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9528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Губитак телесне масе</a:t>
            </a:r>
            <a:r>
              <a:rPr b="0" lang="sr-Latn-C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, </a:t>
            </a:r>
            <a:r>
              <a:rPr b="0" lang="sr-C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иликом мршављења не сме бити изнад</a:t>
            </a:r>
            <a:r>
              <a:rPr b="0" lang="sr-Latn-C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50560" y="2781360"/>
            <a:ext cx="583380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%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упн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M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дељ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%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упн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M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сец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5%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упн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M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сец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%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упн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M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6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сец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Picture 7" descr="anoreksija_inline"/>
          <p:cNvPicPr/>
          <p:nvPr/>
        </p:nvPicPr>
        <p:blipFill>
          <a:blip r:embed="rId1"/>
          <a:stretch/>
        </p:blipFill>
        <p:spPr>
          <a:xfrm>
            <a:off x="5965920" y="2133720"/>
            <a:ext cx="2679480" cy="4032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7993080" cy="252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200" spc="-1" strike="noStrike">
                <a:solidFill>
                  <a:srgbClr val="002060"/>
                </a:solidFill>
                <a:latin typeface="Arial"/>
                <a:ea typeface="Times New Roman"/>
              </a:rPr>
              <a:t>ПРИНЦИПИ</a:t>
            </a:r>
            <a:r>
              <a:rPr b="1" lang="en-US" sz="4200" spc="-1" strike="noStrike">
                <a:solidFill>
                  <a:srgbClr val="002060"/>
                </a:solidFill>
                <a:latin typeface="Arial"/>
                <a:ea typeface="Times New Roman"/>
              </a:rPr>
              <a:t> </a:t>
            </a:r>
            <a:br>
              <a:rPr sz="4200"/>
            </a:br>
            <a:r>
              <a:rPr b="1" lang="sr-CS" sz="4200" spc="-1" strike="noStrike">
                <a:solidFill>
                  <a:srgbClr val="002060"/>
                </a:solidFill>
                <a:latin typeface="Arial"/>
                <a:ea typeface="Times New Roman"/>
              </a:rPr>
              <a:t>САСТАВЉАЊА ХРАНЉИВОГ ДНЕВНОГ ОБРОКА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4" descr=""/>
          <p:cNvPicPr/>
          <p:nvPr/>
        </p:nvPicPr>
        <p:blipFill>
          <a:blip r:embed="rId1"/>
          <a:stretch/>
        </p:blipFill>
        <p:spPr>
          <a:xfrm>
            <a:off x="1979640" y="3068640"/>
            <a:ext cx="5143320" cy="35002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000" y="3357720"/>
            <a:ext cx="3119400" cy="28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особе које желе да смање телесну масу ће испланирати дневни енергетски унос који ће бити мањи од енергетске потрошње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250920" y="549360"/>
            <a:ext cx="852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ПЛАНИРАЊЕ И САСТАВЉАЊЕ ХРАНЉИВОГ ДНЕВНОГ ОБРО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6"/>
          <p:cNvSpPr/>
          <p:nvPr/>
        </p:nvSpPr>
        <p:spPr>
          <a:xfrm>
            <a:off x="250920" y="1341360"/>
            <a:ext cx="8664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Циљ планирања дневног оброка је да се усклад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дневни енергетски унос са очекиваним дневним енергетским потребама. Планирање дневног оброка представља и могућност за корекцију стања ухрањеност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2" descr=""/>
          <p:cNvPicPr/>
          <p:nvPr/>
        </p:nvPicPr>
        <p:blipFill>
          <a:blip r:embed="rId1"/>
          <a:stretch/>
        </p:blipFill>
        <p:spPr>
          <a:xfrm>
            <a:off x="3929040" y="3000240"/>
            <a:ext cx="4500720" cy="35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332568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е које желе да повећају телесну масу ће испланирати дневни енергетски унос који ће бити већи од реалних енергетских потреб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br>
              <a:rPr sz="2400"/>
            </a:br>
            <a:r>
              <a:rPr b="1" lang="sr-Latn-C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br>
              <a:rPr sz="1700"/>
            </a:br>
            <a:r>
              <a:rPr b="1" lang="sr-Latn-CS" sz="1700" spc="-1" strike="noStrike">
                <a:solidFill>
                  <a:srgbClr val="000000"/>
                </a:solidFill>
                <a:latin typeface="CirilicaTimes"/>
              </a:rPr>
              <a:t>	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Rectangle 4"/>
          <p:cNvSpPr/>
          <p:nvPr/>
        </p:nvSpPr>
        <p:spPr>
          <a:xfrm>
            <a:off x="457200" y="4572000"/>
            <a:ext cx="8136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sr-C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У оба случаја се препоручује да разлике између енергетског уноса и потрошње не буду велике</a:t>
            </a: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– </a:t>
            </a:r>
            <a:r>
              <a:rPr b="0" lang="sr-C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корекцију стања ухрањености остваривати</a:t>
            </a:r>
            <a:r>
              <a:rPr b="1" lang="sr-C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постепено </a:t>
            </a:r>
            <a:r>
              <a:rPr b="0" lang="sr-C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и без угрожавања здравља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5" descr=""/>
          <p:cNvPicPr/>
          <p:nvPr/>
        </p:nvPicPr>
        <p:blipFill>
          <a:blip r:embed="rId1"/>
          <a:stretch/>
        </p:blipFill>
        <p:spPr>
          <a:xfrm>
            <a:off x="4143240" y="785880"/>
            <a:ext cx="428652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9280" y="1628280"/>
            <a:ext cx="8964720" cy="480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нутног стања ухрањеност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2400"/>
            </a:br>
            <a:br>
              <a:rPr sz="10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рости особе</a:t>
            </a:r>
            <a:br>
              <a:rPr sz="2400"/>
            </a:br>
            <a:br>
              <a:rPr sz="10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а</a:t>
            </a:r>
            <a:br>
              <a:rPr sz="2400"/>
            </a:br>
            <a:br>
              <a:rPr sz="10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ункционалног стања организм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удноћ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актациј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ест или фаза болест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br>
              <a:rPr sz="2400"/>
            </a:br>
            <a:br>
              <a:rPr sz="10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фичних потреб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фесија, спортисти, рекреативц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br>
              <a:rPr sz="2400"/>
            </a:br>
            <a:br>
              <a:rPr sz="10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гућег неподношења појединих врста или облика хранљивих материја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толеранција хран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br>
              <a:rPr sz="2400"/>
            </a:br>
            <a:br>
              <a:rPr sz="10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лова који постоје у окружењу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им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br>
              <a:rPr sz="2400"/>
            </a:br>
            <a:br>
              <a:rPr sz="10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дног и стамбеног амбијент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кроклиматски услов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br>
              <a:rPr sz="2400"/>
            </a:br>
            <a:br>
              <a:rPr sz="10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штвено социјалног амбијент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вике везане за исхрану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р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ичај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ријалних могућност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457200" y="228600"/>
            <a:ext cx="8367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irilicaTimes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ликом састављања дневног оброка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ба имати у виду различите податк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р материјални и енергетски губитак у току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та зависи о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50560" y="228600"/>
            <a:ext cx="8785080" cy="632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ви корак у планирању дневног оброка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 </a:t>
            </a:r>
            <a:r>
              <a:rPr b="0" lang="sr-C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дефинисање очекиваних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sr-C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енергетских потреб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br>
              <a:rPr sz="2400"/>
            </a:br>
            <a:br>
              <a:rPr sz="1200"/>
            </a:b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нергетски састав хране треба да одговара потребама организма за енергијом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br>
              <a:rPr sz="2400"/>
            </a:br>
            <a:br>
              <a:rPr sz="1200"/>
            </a:b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невне енергетске потреб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 израчунавају сабирањем вредност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br>
              <a:rPr sz="2400"/>
            </a:br>
            <a:br>
              <a:rPr sz="10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залног метаболизм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BMR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MR)</a:t>
            </a:r>
            <a:br>
              <a:rPr sz="2400"/>
            </a:br>
            <a:br>
              <a:rPr sz="10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чекиване енергетске потрошњ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ребне за обављање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ираних физичких активности 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2400"/>
            </a:br>
            <a:br>
              <a:rPr sz="10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нергије која одговара вредности термичког ефекта хране (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F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ли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DD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од које ће бити састављен дневни обро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br>
              <a:rPr sz="2400"/>
            </a:b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едећи корак представља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бор хранљивих материја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је треба да омогуће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говарајући енергетски уно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 дневном оброку треба да су заступљени</a:t>
            </a:r>
            <a:r>
              <a:rPr b="0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30974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гљени хидрат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аст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еланчевин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итамини</a:t>
            </a:r>
            <a:r>
              <a:rPr b="0" lang="en-U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инерал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лигоелемент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од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4" descr=""/>
          <p:cNvPicPr/>
          <p:nvPr/>
        </p:nvPicPr>
        <p:blipFill>
          <a:blip r:embed="rId1"/>
          <a:stretch/>
        </p:blipFill>
        <p:spPr>
          <a:xfrm>
            <a:off x="3643200" y="2214720"/>
            <a:ext cx="4714920" cy="35528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7640" y="476280"/>
            <a:ext cx="8675640" cy="612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ИМЕР</a:t>
            </a:r>
            <a:r>
              <a:rPr b="1" lang="sr-Latn-C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sr-C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АСТАВЉАЊА</a:t>
            </a:r>
            <a:r>
              <a:rPr b="1" lang="sr-Latn-C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sr-C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ДНЕВНОГ</a:t>
            </a:r>
            <a:r>
              <a:rPr b="1" lang="sr-Latn-C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sr-C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БРОКА</a:t>
            </a:r>
            <a:br>
              <a:rPr sz="2400"/>
            </a:br>
            <a:br>
              <a:rPr sz="1400"/>
            </a:br>
            <a:r>
              <a:rPr b="1" i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за</a:t>
            </a:r>
            <a:r>
              <a:rPr b="1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ређивањ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нергетских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реба</a:t>
            </a:r>
            <a:br>
              <a:rPr sz="2400"/>
            </a:b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br>
              <a:rPr sz="2400"/>
            </a:b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невне енергетске потреб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EP)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 израчунавају по следећој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ул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br>
              <a:rPr sz="2400"/>
            </a:br>
            <a:br>
              <a:rPr sz="1000"/>
            </a:b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P = RMR + EFA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нергија за физичку активност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TEF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мички ефекат хран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br>
              <a:rPr sz="2400"/>
            </a:br>
            <a:br>
              <a:rPr sz="2400"/>
            </a:br>
            <a:r>
              <a:rPr b="1" i="1" lang="sr-C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1. а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MR = k </a:t>
            </a:r>
            <a:r>
              <a:rPr b="1" lang="sr-Latn-C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M </a:t>
            </a:r>
            <a:r>
              <a:rPr b="1" lang="sr-Latn-C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4</a:t>
            </a:r>
            <a:br>
              <a:rPr sz="2400"/>
            </a:br>
            <a:br>
              <a:rPr sz="2400"/>
            </a:b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коефицијент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k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а вредност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мушкарц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0.9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жене)</a:t>
            </a:r>
            <a:br>
              <a:rPr sz="2400"/>
            </a:br>
            <a:br>
              <a:rPr sz="1000"/>
            </a:b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р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(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мушкарца телесне мас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80kg)</a:t>
            </a:r>
            <a:br>
              <a:rPr sz="2400"/>
            </a:b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MR = 1 </a:t>
            </a:r>
            <a:r>
              <a:rPr b="0" lang="sr-Latn-C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80 </a:t>
            </a:r>
            <a:r>
              <a:rPr b="0" lang="sr-Latn-C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4 = 1920 kcal/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н</a:t>
            </a:r>
            <a:br>
              <a:rPr sz="2400"/>
            </a:br>
            <a:br>
              <a:rPr sz="1000"/>
            </a:b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ед ове једноставне формул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израчунавањ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MR,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е се користит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прецизнија метода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рачунавањ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ја узима у обзир не само пол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ћ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узраст и телесну мас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TM)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" name=""/>
          <p:cNvGraphicFramePr/>
          <p:nvPr/>
        </p:nvGraphicFramePr>
        <p:xfrm>
          <a:off x="468360" y="404640"/>
          <a:ext cx="8229600" cy="5851800"/>
        </p:xfrm>
        <a:graphic>
          <a:graphicData uri="http://schemas.openxmlformats.org/drawingml/2006/table">
            <a:tbl>
              <a:tblPr/>
              <a:tblGrid>
                <a:gridCol w="990720"/>
                <a:gridCol w="1974600"/>
                <a:gridCol w="5264280"/>
              </a:tblGrid>
              <a:tr h="71784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Једначине</a:t>
                      </a:r>
                      <a:r>
                        <a:rPr b="1" lang="sr-Latn-CS" sz="2400" spc="-1" strike="noStrike">
                          <a:solidFill>
                            <a:srgbClr val="000000"/>
                          </a:solidFill>
                          <a:latin typeface="CirilicaTimes"/>
                          <a:ea typeface="Times New Roman"/>
                        </a:rPr>
                        <a:t> </a:t>
                      </a: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за</a:t>
                      </a:r>
                      <a:r>
                        <a:rPr b="1" lang="sr-Latn-CS" sz="2400" spc="-1" strike="noStrike">
                          <a:solidFill>
                            <a:srgbClr val="000000"/>
                          </a:solidFill>
                          <a:latin typeface="CirilicaTimes"/>
                          <a:ea typeface="Times New Roman"/>
                        </a:rPr>
                        <a:t> </a:t>
                      </a: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израчунавање</a:t>
                      </a:r>
                      <a:r>
                        <a:rPr b="1" lang="sr-Latn-CS" sz="2400" spc="-1" strike="noStrike">
                          <a:solidFill>
                            <a:srgbClr val="000000"/>
                          </a:solidFill>
                          <a:latin typeface="CirilicaTimes"/>
                          <a:ea typeface="Times New Roman"/>
                        </a:rPr>
                        <a:t> </a:t>
                      </a: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Б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2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По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Старост</a:t>
                      </a: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CirilicaTimes"/>
                          <a:ea typeface="Times New Roman"/>
                        </a:rPr>
                        <a:t> (</a:t>
                      </a: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године</a:t>
                      </a: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CirilicaTimes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Једначина за израчунавање</a:t>
                      </a: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CirilicaTimes"/>
                          <a:ea typeface="Times New Roman"/>
                        </a:rPr>
                        <a:t> </a:t>
                      </a: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БМ</a:t>
                      </a: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CirilicaTimes"/>
                          <a:ea typeface="Times New Roman"/>
                        </a:rPr>
                        <a:t> (</a:t>
                      </a: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у </a:t>
                      </a: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kcal</a:t>
                      </a: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CirilicaTimes"/>
                          <a:ea typeface="Times New Roman"/>
                        </a:rPr>
                        <a:t>/</a:t>
                      </a: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дан</a:t>
                      </a: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CirilicaTimes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09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муш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-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-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0-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18-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0-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60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(60.9 x TM) – 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(22.7 x TM) + 49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(17.5 x TM) +6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(15.3 x TM) + 67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(11.6 x TM) +87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(13.5 x TM) + 4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женс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-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-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0-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18-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0-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60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(61.0 x TM) – 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(22.5 x TM) + 4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(12.2 x TM) + 74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(14.7 x TM) + 4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(8.7 x TM) + 8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0.5 x TM) + 5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7T18:38:47Z</dcterms:created>
  <dc:creator>Maja</dc:creator>
  <dc:description/>
  <dc:language>en-US</dc:language>
  <cp:lastModifiedBy>User</cp:lastModifiedBy>
  <dcterms:modified xsi:type="dcterms:W3CDTF">2014-10-01T14:47:04Z</dcterms:modified>
  <cp:revision>46</cp:revision>
  <dc:subject/>
  <dc:title>Енергетски метаболизам и физиологија исхране</dc:title>
</cp:coreProperties>
</file>