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A3E-2721-4C16-9842-60E503BA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13E-9492-4D55-B293-805CB84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AE9-B2B9-4137-BAF6-F866385A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E27-B2C6-4867-A7BD-655D67D3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D5F-6EDB-4736-A5CB-F145C204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175-3422-4CE3-8D43-0E122463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9F4-2862-42B7-AADE-6B44AFCE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A01-AB45-42D8-B78F-D7F160A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47F-669D-4A36-B9DE-087955A1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25A-C08A-4539-B970-B1BF8AF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EFB-199F-4267-B102-957EC94D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A47-C6E6-4A88-A46A-651DE0A6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20F1-8CAF-4322-BC0D-DB95066DA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c/Marquardt_%26_Baka_dancer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c/Marquardt_%26_Baka_dancer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4954320" y="60958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. др Сузана Пант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514600" y="426708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ВОД У ЕНДОКРИНОЛОГИ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ОРМОНИ ХИПОФИ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ОРМОНИ ТИРЕОИДНЕ ЖЛЕЗ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ОРМОНИ КОРЕ НАДБУБРЕЖНЕ 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971800" y="1143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656160" y="15238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669120" y="1905120"/>
            <a:ext cx="240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наставна једи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447920" y="275004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e339a"/>
                </a:solidFill>
                <a:latin typeface="Arial"/>
                <a:ea typeface="Calibri"/>
              </a:rPr>
              <a:t>Физиологија ендокриног систе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132084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1536840" cy="138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4"/>
          <a:stretch/>
        </p:blipFill>
        <p:spPr>
          <a:xfrm>
            <a:off x="304920" y="5549760"/>
            <a:ext cx="1498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2209680"/>
            <a:ext cx="449568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ључни принцип који је најбитнији за ендокрину физиологију ј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ханизам повратне спрег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ј механизам подразумева да у склоп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говора циљног ткива на дејство хормона долази до повратног утицаја на иницијални сигн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вратна спрега може би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негатив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вратна спрег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зависи од степена активности циљног ткив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позитив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вратна спрега (много ређе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H, окситоц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Suzana\Ganong knjiga\Ganong slike\XVI POGLAVLjE\PNG\Gan024_Deo_16-03.png"/>
          <p:cNvPicPr/>
          <p:nvPr/>
        </p:nvPicPr>
        <p:blipFill>
          <a:blip r:embed="rId1"/>
          <a:stretch/>
        </p:blipFill>
        <p:spPr>
          <a:xfrm>
            <a:off x="4952880" y="1371600"/>
            <a:ext cx="3805200" cy="4962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447920" y="8380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ПРИНЦИПИ КОНТРОЛЕ ПОВРАТНОМ СПРЕ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257800" y="6324480"/>
            <a:ext cx="388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Сажетак о механизму повратне спреге у ендокриној осовини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ЦНС – централни нервни систем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071080" y="22860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КОНТРОЛА ЛУЧЕЊА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52280" y="1981080"/>
            <a:ext cx="46483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116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итивна повратна спрег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ља повратни ефекат циљног ткива на почетни стимулус кро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тинуирано стимулисање почетног стимулус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нцип: «што више то више». Тај механизам је у физиолошком смислу веом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да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ешава се углавном када је потребан неки момента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говор, као што је нпр.порођај (окситоцин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гативна поврат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ега је мно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шћ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едстављ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вратни инхибиторни утицај циљног ткива на почетни стимулу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степена активности циљног ткив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: «што више то мањ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Suzana\Ganong knjiga\Ganong slike\XVI POGLAVLjE\PNG\Gan024_Deo_16-03.png"/>
          <p:cNvPicPr/>
          <p:nvPr/>
        </p:nvPicPr>
        <p:blipFill>
          <a:blip r:embed="rId1"/>
          <a:stretch/>
        </p:blipFill>
        <p:spPr>
          <a:xfrm>
            <a:off x="5105520" y="1143000"/>
            <a:ext cx="3805200" cy="4962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447920" y="609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ПРИНЦИПИ КОНТРОЛЕ ПОВРАТНОМ СПРЕ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257800" y="6324480"/>
            <a:ext cx="388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Сажетак о механизму повратне спреге у ендокриној осовини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ЦНС – централни нервни систем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071080" y="1522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КОНТРОЛА ЛУЧЕЊА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21120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70c0"/>
                </a:solidFill>
                <a:latin typeface="Arial"/>
              </a:rPr>
              <a:t>Х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Suzana\Ganong knjiga\Ganong slike\XVII POGLAVLjE\PNG\Gan024_Deo_17-01.png"/>
          <p:cNvPicPr/>
          <p:nvPr/>
        </p:nvPicPr>
        <p:blipFill>
          <a:blip r:embed="rId1"/>
          <a:stretch/>
        </p:blipFill>
        <p:spPr>
          <a:xfrm>
            <a:off x="1676520" y="2743200"/>
            <a:ext cx="5608440" cy="334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06668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поталамус човека са дијаграмским приказом портно-хипофизних суд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99072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поталамус је део предњег краја диенцефалона. Подељен је на различит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ра и једарне области. Повезан је с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мбичким системом, различитим једрима у тегментуму средњег мозга, понса и ромбенцефал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7559280" y="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ХИПОТАЛАМ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05520" y="5562720"/>
            <a:ext cx="4038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креција хормона хипоталамуса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рмони задњег режња се ослобађају у системску циркулацију на завршецима супраоптичких и паравентрикуларних неурона, а хипофизиотропни хормони се секретују у хипофизну портну циркулацију на завршецима аркуатних и других хипоталамусних неурона. ПР, предњи режањ; МТ, мамиларна тела; ОХ, оптичка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хијазм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28600" y="182880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монски и нервни сигнали хипоталамуса контролишу скоро целокупну секрецију хипофиз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ј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р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з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ђу хипоталамуса и задњег режња хипофизе (неурохипофизе)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скулар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з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хормонска регулација) између хипоталамуса и предњег режња (аденохипофизе) – тзв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поталамо-хипофизни портни сист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Suzana\Ganong knjiga\Ganong slike\XVII POGLAVLjE\PNG\Gan024_Deo_17-02.png"/>
          <p:cNvPicPr/>
          <p:nvPr/>
        </p:nvPicPr>
        <p:blipFill>
          <a:blip r:embed="rId1"/>
          <a:stretch/>
        </p:blipFill>
        <p:spPr>
          <a:xfrm>
            <a:off x="5562720" y="1219320"/>
            <a:ext cx="3352680" cy="396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228600" y="1066680"/>
            <a:ext cx="87631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ФУНКЦИЈЕ ХИПОТАЛАМ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је хипоталамуса су разноврсне. Тако је пре много година, Шерингтон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herrington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поталамус назвао „главним ганглионом аутономног нервног система”. Сматра се да постоје одвојени хипоталамусни центри за контролу лучењ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реналина и норадренал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с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виси од равнотеже између уноса и потрошње калорија па гојазност настаје када је унос калорија већи од потрошње. Такође, хипоталамус са пратећим деловима мозга има улогу 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ациј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ператур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авањ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г ритм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ред осталог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 смемо заборавити ни да ова структу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екретује тзв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ing (ослобађајуће) хормоне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видети на слајду бр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тетише хормоне који се ослобађају у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еурохипофизи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за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мбички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истемом и д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улише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мотивно и инстинктивно понашањ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(жеђ, глад, сексуално понаш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довољство, страх, љутњу, бе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59280" y="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ХИПОТАЛАМ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09680" y="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Приказ главних функција хипоталам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35840" cy="647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739960" y="38088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ХИПОФИЗА</a:t>
            </a: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glandula pituitar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8600" y="990720"/>
            <a:ext cx="8686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офи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је мала жлезда, промера око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масе око 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мештена у турском седлу и повезана питуитарном (хипофизном) петељком са хипоталамус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офи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је центар за контролу многих ендокриних жлезда и изграђена је код човека од два одвојена ендокрина дела, који садрже хормонски активне супстанце, и са рудиментираним средњим режњем између њ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ови хипофиз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едњи режањ хипофизе (аденохипофиз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дњи режањ (неурохипофиз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редњи режањ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 intermed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Suzana\Ganong knjiga\Ganong slike\XVIII POGLAVLjE\PNG\Gan024_Deo_18-01.png"/>
          <p:cNvPicPr/>
          <p:nvPr/>
        </p:nvPicPr>
        <p:blipFill>
          <a:blip r:embed="rId1"/>
          <a:stretch/>
        </p:blipFill>
        <p:spPr>
          <a:xfrm>
            <a:off x="2057400" y="3505320"/>
            <a:ext cx="4633920" cy="2438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80880" y="60958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рмирање хипофизе (лево) и шематски приказ различитих делова овог органа код одраслих (десно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ва дела хипофизе имају различито ембрионално порекло, аденохипофиза из Раткеове вреће (шпага), ембрионалне инвагинације епитела ждрела, а неурохипофиза из нервног дела које је изданак хипоталаму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228600" y="838080"/>
            <a:ext cx="8915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Задњи режањ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пофизе је изграђен од завршетака аксона супраоптичког и паравентрикуларног једра хипоталамуса, који су у тесној вези са крв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довима и ембрионално се развија из тих структура. Такође су присутни питуицити, звездаст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ћелије које представљају модификоване астроц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Предњи режањ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пофизе, са друге стран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 ендокрине ћелије које се ембрионално развијај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дупликатуре ждрела (Раткеов шпаг или џеп). Садржи испреплетане ћелије и мрежу синусоидних капилара. Ендотел капилара је фенестриран. Ћелије садрже грануле ускладиштених хормона који се избацују из ћелија егзоцитозом. Садржај гранула доспева до капилара и преноси се путем крви до других тки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нохипофиза садржи неколико различитих типова ћелија и секретује 6 главних хормон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рмон раст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соматотропни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хорм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дренокортикотроп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ормо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иреостимулишући хорм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утеинизирајући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хормон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H)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фоликулостимулирајући хормон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H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лакт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абдева се крвљу из портних крвних судова хипофизе који пролазе кроз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миненцију медијану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inentia mediana)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ај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кве васкуларизације је у ефикасном одговору предњег режња хипофизе на регулаторне факторе који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стварају у хипоталаму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Средњи режањ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је код људи и неких других врста сисара слабо развијен. Код ових врста многе ћелије средњег режња су уграђене у предњи режа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офиз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7783200" y="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ИПОФ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31880" y="990720"/>
            <a:ext cx="7839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ПРЕДЊИ РЕЖАЊ ХИПОФИЗЕ - </a:t>
            </a:r>
            <a:r>
              <a:rPr b="1" i="1" lang="sr-CS" sz="2400" spc="-1" strike="noStrike">
                <a:solidFill>
                  <a:srgbClr val="0070c0"/>
                </a:solidFill>
                <a:latin typeface="Arial"/>
              </a:rPr>
              <a:t>АДЕНОХ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ХОРМОНИ ПРЕДЊЕГ РЕЖЊА ХИПОФ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04920" y="228600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њи режањ хипофизе секретује шест главних хорм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дренокортикотропни хормон (кортикотропин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H)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иреостимулирајући хормон (тиреотропин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H)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рмон раста -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оматотроп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ормо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ликулостимулирајући хормон (FSH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теинизирајући хормон (LH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актин (PR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један полипепти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-липотроп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β-LPH), се секретује заједно са ACTH, али његова физиолошка улога је још увек непозн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поталамус има важн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мулацијску улогу у секрециј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H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H, TSH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мона раста, FSH и LH. Он такође регулише и секрецију пролактина, али му је ефекат претежно инхибито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152280" y="380880"/>
            <a:ext cx="883944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КОНТРОЛА СЕКРЕЦИЈЕ ПРЕДЊЕГ РЕЖЊА ХИПОФ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70c0"/>
                </a:solidFill>
                <a:latin typeface="Arial"/>
              </a:rPr>
              <a:t>ПРИРОДА КОНТРОЛЕ ХИПОТАЛАМ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у хормона предњег режња хипофизе контролишу хемијски агенси који се из хипоталамуса до хипофизе преносе портним судовима хипофизе. Ове супстанце су с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када називале </a:t>
            </a:r>
            <a:r>
              <a:rPr b="1" lang="sr-CS" sz="1600" spc="-1" strike="noStrike">
                <a:solidFill>
                  <a:srgbClr val="0070c0"/>
                </a:solidFill>
                <a:latin typeface="Arial"/>
              </a:rPr>
              <a:t>ослобађајућим (</a:t>
            </a:r>
            <a:r>
              <a:rPr b="1" i="1" lang="en-US" sz="1600" spc="-1" strike="noStrike">
                <a:solidFill>
                  <a:srgbClr val="0070c0"/>
                </a:solidFill>
                <a:latin typeface="Arial"/>
              </a:rPr>
              <a:t>releasing) </a:t>
            </a:r>
            <a:r>
              <a:rPr b="1" lang="sr-CS" sz="1600" spc="-1" strike="noStrike">
                <a:solidFill>
                  <a:srgbClr val="0070c0"/>
                </a:solidFill>
                <a:latin typeface="Arial"/>
              </a:rPr>
              <a:t>и инхибишућим</a:t>
            </a: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факторим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ли се данас обично називају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хипофизиотропни хормо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и се хормони луче у крвоток и делују на дистанци од места стварања. Мала количина одлази у општу циркулацију, али су у највећој концентрацији у портној крви хипофи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70c0"/>
                </a:solidFill>
                <a:uFillTx/>
                <a:latin typeface="Arial"/>
              </a:rPr>
              <a:t>ОСЛОБАЂАЈУЋИ (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releasing) </a:t>
            </a:r>
            <a:r>
              <a:rPr b="1" lang="sr-CS" sz="1800" spc="-1" strike="noStrike" u="sng">
                <a:solidFill>
                  <a:srgbClr val="0070c0"/>
                </a:solidFill>
                <a:uFillTx/>
                <a:latin typeface="Arial"/>
              </a:rPr>
              <a:t>И ИНХИБИШУЋИ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Arial"/>
              </a:rPr>
              <a:t>ФАКТОРИ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 ХИПОТАЛАМУС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70bf"/>
                </a:solidFill>
                <a:latin typeface="Arial"/>
              </a:rPr>
              <a:t>или </a:t>
            </a:r>
            <a:r>
              <a:rPr b="1" lang="sr-CS" sz="1800" spc="-1" strike="noStrike" u="sng">
                <a:solidFill>
                  <a:srgbClr val="0070c0"/>
                </a:solidFill>
                <a:uFillTx/>
                <a:latin typeface="Arial"/>
              </a:rPr>
              <a:t>ХИПОФИЗИОТРОПНИ 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(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releasing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) </a:t>
            </a:r>
            <a:r>
              <a:rPr b="1" lang="sr-CS" sz="1800" spc="-1" strike="noStrike" u="sng">
                <a:solidFill>
                  <a:srgbClr val="0070c0"/>
                </a:solidFill>
                <a:uFillTx/>
                <a:latin typeface="Arial"/>
              </a:rPr>
              <a:t>ХОРМ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ји шест главних хипоталамусних ослобађајућих и инхибишућих хормо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тикотропин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ослобађајући хормо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H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иреотропин ослобађајућ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мон (TRH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лобађајући хорм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мон рас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GRH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хибишући хорм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мон раста (GIH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нат и ка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матостатин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гонадотропни ослобађајући хормо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nRH)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ј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лобађајући хорм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теинизирајући хормон (LHRH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о и з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ликостимулирајући хормо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SH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лактин инхибирајући хормон (PIH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–"/>
              <a:tabLst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ед тога, хипоталамусни екстракти поседују пролактин-ослобађајућу активност, па је претпостављено постојањ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лобађајућег хормона за пролактин (PRH). </a:t>
            </a:r>
            <a:r>
              <a:rPr b="1" lang="en-US" sz="1600" spc="-1" strike="noStrike">
                <a:solidFill>
                  <a:srgbClr val="1944a3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5240">
              <a:lnSpc>
                <a:spcPct val="100000"/>
              </a:lnSpc>
              <a:tabLst>
                <a:tab algn="l" pos="0"/>
                <a:tab algn="l" pos="26676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286400" y="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АДЕНОХИПОФ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4648320" y="617220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и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атомски положај главних ендокриних жлезда у те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52280" y="838080"/>
            <a:ext cx="495324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Физиологија ендокриног система се бави различитим аспектима одржавања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хомеoстаз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а то се постиже координацијо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различитих, а међусобно повезаних, комуникационих систем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који регулишу активнос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ћелија у циљним ткивима у читавом организм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Медијатори овог система су супстанце, познате као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хормон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horma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- реч грчког порекла, значи покрену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Одлика ендокриног система je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и да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нема стриктне анатомске границе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, тј. чини га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систем раштркани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х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жлезда и гласника у циркулацији, које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су често под контролом</a:t>
            </a:r>
            <a:r>
              <a:rPr b="0" lang="sr-CS" sz="1700" spc="-1" strike="noStrike">
                <a:solidFill>
                  <a:srgbClr val="ff0000"/>
                </a:solidFill>
                <a:latin typeface="Arial"/>
                <a:ea typeface="MinionPro-Regular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централн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ог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нервнo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г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системa и/или аутономнo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г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нервн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ог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 систем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nionPro-Regular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72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7065720" y="0"/>
            <a:ext cx="20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АДЕНОХИПОФ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57200" y="4952880"/>
            <a:ext cx="8381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и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фекти хипофизиотропних хормо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leasing хормона хипоталамуса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крецију хормона предњег режња хипофи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D:\Suzana\Ganong knjiga\Ganong slike\XVII POGLAVLjE\PNG\Gan024_Deo_17-10.png"/>
          <p:cNvPicPr/>
          <p:nvPr/>
        </p:nvPicPr>
        <p:blipFill>
          <a:blip r:embed="rId1"/>
          <a:stretch/>
        </p:blipFill>
        <p:spPr>
          <a:xfrm>
            <a:off x="533520" y="2209680"/>
            <a:ext cx="779148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52280" y="76212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ћина, ако не и св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ing хормони хипоталамуса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пофизиотропни хормо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лују на секрецију више од једног хормона предњег режњ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офи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цептори за већину хипофизиотропних хормона с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зани с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теин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44a3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TRH, VIP и неколико других полипептида нађених у хипоталамусу стимулишу секрецију пролактина, али је неизвесно да ли је један или више од ових пептида физиолошки P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04920" y="1828800"/>
            <a:ext cx="8610480" cy="396252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4920" y="457200"/>
            <a:ext cx="883908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70c0"/>
                </a:solidFill>
                <a:latin typeface="Arial"/>
              </a:rPr>
              <a:t>БИОСИНТЕЗА И ХЕМИЗ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мон раста секретује аденохипофиза и познат је и као соматотропни хормон или соматотропин.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зазива раст скоро свих ткива у телу која су способна да раст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 има различита метаболичка деј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д људи, говеђи и свињски хормон раста немају ефекте на раст. Ова чињеница је изузетно значајна када се дискутује о присуству говеђег хормона раста у нпр. млечним производима. Рекомбинантни хормон раста се примењује код деце која заостају у расту, док њихова примена, показано је, код здравих особа (без дефицита хормона раста) не даје видљиве резулт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638680" y="42991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57200" y="5181480"/>
            <a:ext cx="4876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Слика десно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: Приказана је промена телесне масе два пацова из истог легла, једног који је свакога дана добијао хормон раста и другог који није третиран. Резултат је повећање телесне масе под утицајем хормона раста, како у првим данима живота, тако и касније у одраслом доб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У раним стадијумима развоја сви органи третираних животиња расту пропорционално, а у одраслом добу већина костију престаје да расте у дужину, док многа мека ткива настављају да раст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152280" y="1066680"/>
            <a:ext cx="88394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ФЕКТИ НА 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д младих животиња код којих епифизе дугих костију још нису спојене раст инхибише хипофизектомија, а стимулише хормон раста. Хондрогенеза је у присуству хормона раста убрзана и како се плоче хрскавице епифизе шире, одлаже се више матрикса на крајевима дугих костију. На овај начин повећава се величина кости. Продужена примена хормона раста код младих организама изазив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гантиза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52280" y="2971800"/>
            <a:ext cx="594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се епифизе затворе линеарни раст костију више није могућ. Повећана секреција хормона раста доводи до деформације костију и меких ткива познатије код људи ка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ромегалиј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ети слику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266920" cy="359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38080" y="8380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70c0"/>
                </a:solidFill>
                <a:latin typeface="Arial"/>
              </a:rPr>
              <a:t>МЕТАБОЛИЧКИ ЕФЕКТИ СОМАТОТРОПНОГ ХОРМ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3520" y="1219320"/>
            <a:ext cx="830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ормон раста – соматотропни хормон повећава количину протеина у телу, троши резерве масти, а чува угљене хидр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80880" y="23623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СОМАТОМ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2971800"/>
            <a:ext cx="8991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фекти хормона раста на раст, хрскавицу и метаболизам протеина зависе од интеракције хормона раст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матомед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олипептидних фактора раста који се секретују у јетри и другим ткивима (хрскавица 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ас је познато да постоје различити соматомедини а главни соматомедини у циркулацији с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актор раста сличан инсулину 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GF-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матомедин С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IGF-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Соматомедини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нсулину с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 фактори раста), "посредници" су у испољавању дејства соматотропног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2819520"/>
            <a:ext cx="37339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imes New Roman"/>
              </a:rPr>
              <a:t>Соматомедин 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недостатак: африч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Пигмеји, Le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-Lor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v патуља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Соматомедин C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а дуг полуживот: 20 са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</a:rPr>
              <a:t>Хормон раст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а кратак полуживот: 20 м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Datoteka:Marquardt &amp; Baka danc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97280" y="2362320"/>
            <a:ext cx="5041800" cy="37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685800" y="5335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ХИПОТАЛАМУСНА И ПЕРИФЕРНА КОНТРОЛА СЕКРЕЦИЈЕ ХОРМОНА 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280" y="1905120"/>
            <a:ext cx="4191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а хормона раста није уједначена. Адолесценти имају највећи ниво хормона раста у циркулацији, потом деца, па одрасли. Ниво овог хормона опада у старијем добу, па због тога постоји заинтересованост за убризгавањем хормона раста како би се успорило старењ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мон повећава мишићну масу и смањује масно ткиво, али не даје статистички значајан пораст мишићне снаге и менталног стату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је дневне варијације у секрецији хормона раста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ком спавања секретују се пулсатилно велике количине хормона рас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42620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495680" y="5257800"/>
            <a:ext cx="4496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Дневне варијације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 секрецији хормона раста. Запазити да се највећа секреција одиграва у току спавања (поноћ) и да физичка активност, такође, повећава његову секрециј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685800" y="5335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ХИПОТАЛАМУСНА И ПЕРИФЕРНА КОНТРОЛА СЕКРЕЦИЈЕ ХОРМОНА 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D:\Suzana\Ganong knjiga\Ganong slike\XVIII POGLAVLjE\PNG\Gan024_Deo_18-06.png"/>
          <p:cNvPicPr/>
          <p:nvPr/>
        </p:nvPicPr>
        <p:blipFill>
          <a:blip r:embed="rId1"/>
          <a:stretch/>
        </p:blipFill>
        <p:spPr>
          <a:xfrm>
            <a:off x="5638680" y="1600200"/>
            <a:ext cx="2946600" cy="4038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228600" y="1981080"/>
            <a:ext cx="5029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а хормона раста је под контролом хипоталамуса преко секрециј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мона који ослобађа хормон раста (GHRH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о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матостат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ји инхибише лучење хормона раста. Зато равнотежа између ефеката ових хипоталамичких фактора на хипофизу одређује ниво лучења хормона 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ћи регулатор секреције хормона раста (стимулишући) ј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лин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а хормона раста је под контролом механизм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гатив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вратне спреге. Хормон раста делује на хипоталамус тако што инхибише лучење GHR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029200" y="5996160"/>
            <a:ext cx="39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вратна спрега у контроли секреције хормона раста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уне линије представљају позитивне ефекте а испрекидане линије инхибицију. GH, хормон раста; GHRH, хормон који ослобађа хормон раста; IGF-I, фактор раста сличан инсулину-I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,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соматостатин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144792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тимулуси који утичу на секрецију </a:t>
            </a: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хормона 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2280" y="1219320"/>
            <a:ext cx="4648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и који утичу н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већа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учење хормона раста (десно) с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огликемија (гладовање-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квашиоркор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ња у којима је количина одређене аминокиселине у плазми повећа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с, вежбањ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и хормони (нагли пораст GH у пубертету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еоидни хормони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и кој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хибиш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ење хормона раста с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тизо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бодне масн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исе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авање (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H (негативна повратна спрег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узија глукозе такође снижава ниво хормона раста и инхибише његово повећано лучење при вежбањ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029200" y="6324480"/>
            <a:ext cx="373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имулуси који утичу на секрецију </a:t>
            </a: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хормона ра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4038840" cy="51814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Suzana\Ganong knjiga\Ganong slike\XVIII POGLAVLjE\PNG\Gan024_Deo_18-07.png"/>
          <p:cNvPicPr/>
          <p:nvPr/>
        </p:nvPicPr>
        <p:blipFill>
          <a:blip r:embed="rId1"/>
          <a:stretch/>
        </p:blipFill>
        <p:spPr>
          <a:xfrm>
            <a:off x="380880" y="3422520"/>
            <a:ext cx="3276720" cy="3283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3733920" y="64008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рзина раста код дечака и девојчица од </a:t>
            </a: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рођења до 20 год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52280" y="228600"/>
            <a:ext cx="8991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70c0"/>
                </a:solidFill>
                <a:latin typeface="Arial"/>
              </a:rPr>
              <a:t>ФИЗИОЛОГИЈА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целокупан раст организма утичу не само хормон раста и соматомедини већ и тиреоидни хормони, андрогени, глукокортикоиди и инсу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 је такође одређен и генетским факторима и зависи од исхра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ериоди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Људи имају два периода брзог рас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ви у детињству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 у пубертету непосредно пред сам престанак рас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ви период убрзаног раста је делимично наставак периода феталног раста. Други нагли раст је у време пубертета и настаје због дејства хормона раста, андрогена и естрог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038480" y="3352680"/>
            <a:ext cx="4800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ојчице сазревају пре дечака јер се нагли раст у пубертету код девојчица дешава раније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 током детињства није континуиран већ периодичан или скоковит. Узрок епизодног раста је непоз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авно код оба пола стопа раста појединих ткива се индивидуално разликуј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7318080" y="0"/>
            <a:ext cx="18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ХОРМОН 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380880"/>
            <a:ext cx="4572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ХОРМОНСКИ ЕФЕК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еоидни хормони потенцирају  дејства соматомедина и неопходни су за нормалну секрецију хормона рас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улин и хормон раста делуј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ергистич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 је значајан само онда када се велике количине протеина и угљених хидрата дају са инсули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кокортикоиди су снажни и моћн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хибитор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та због свог потентног дејства на ћелије, па лечење деце терапијским дозама стероида успорава или зауставља раст док се третман спрово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КНАДНИ РАСТ (СУСТИЗАЊЕ РАС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н болести или гладовања код деце, долази до периода накнадног раста током кога је раст детета већи него нормално. Убрзани раст се обично наставља све док се не достиг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иђена вредност, а затим се успорава до нормалног ниво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ханизми који условљавају и контролишу накнадни раст су непозна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D:\Suzana\Ganong knjiga\Ganong slike\XVIII POGLAVLjE\PNG\Gan024_Deo_18-10.png"/>
          <p:cNvPicPr/>
          <p:nvPr/>
        </p:nvPicPr>
        <p:blipFill>
          <a:blip r:embed="rId1"/>
          <a:stretch/>
        </p:blipFill>
        <p:spPr>
          <a:xfrm>
            <a:off x="4952880" y="914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5029200" y="4826160"/>
            <a:ext cx="39625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ормалан и поремећен раст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ца патуљастог раста услед хипотиреоидизма имају инфантилне особине (хипотиреоидни кретенизам) задржавају дечије пропорције, док деца конститутивно патуљастог раста и, у мањој мери, деца код које хипопитуитаризам узрокује патуљасти раст, имају пропорције карактеристичне за свој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аросно доб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еузето из Wilkins L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Diagnosis and Treatment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ndocrine Disorders in Childhood and Adolescence, 3rd ed. Thomas, 1966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8" descr=""/>
          <p:cNvPicPr/>
          <p:nvPr/>
        </p:nvPicPr>
        <p:blipFill>
          <a:blip r:embed="rId1"/>
          <a:stretch/>
        </p:blipFill>
        <p:spPr>
          <a:xfrm>
            <a:off x="5378400" y="152280"/>
            <a:ext cx="376560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рв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ендокри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кри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кри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ракр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укстакрин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59000" y="266688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Комуникациони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685800"/>
            <a:ext cx="4724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MinionPro-Regula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Генерално, одржавањ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хомеoстаз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омогућава неколико међусобно повезаних комуникационих система који координишу бројне функције ћелија, ткива и органа у органи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087320" y="624852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тракр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401520" y="54864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утокр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7467840" y="44956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аракр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7162920" y="12952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урондокр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5029560" y="2819520"/>
            <a:ext cx="104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76bc"/>
                </a:solidFill>
                <a:latin typeface="Arial"/>
              </a:rPr>
              <a:t>Опш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76bc"/>
                </a:solidFill>
                <a:latin typeface="Arial"/>
              </a:rPr>
              <a:t>циркул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5487120" y="1600200"/>
            <a:ext cx="89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76bc"/>
                </a:solidFill>
                <a:latin typeface="Arial"/>
              </a:rPr>
              <a:t>Ћелија 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76bc"/>
                </a:solidFill>
                <a:latin typeface="Arial"/>
              </a:rPr>
              <a:t>синап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7977240" y="243828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Удаље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циљне ћел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6172200" y="38088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Неуросекретор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ћел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7620120" y="36576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Удаље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циљне ћел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5029200" y="43434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Локал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6baa"/>
                </a:solidFill>
                <a:latin typeface="Arial"/>
              </a:rPr>
              <a:t>циркул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988760" y="304812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ндокр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5029200" y="60948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рв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850400" y="53352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ПОСЛЕДИЦЕ ИНСУФИЦИЈЕНЦИЈЕ ХИПОФ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914400"/>
            <a:ext cx="8763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ене ендокриних функција које се дешавају к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 хипофиза одстрани хируршким путем или буде уништ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бог одређене болести, код људи или животиња се 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иде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анхипопитуитаризам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означава смањено лучење свих хормона аденохипофизе. Смањење секреције може бити конгенитално или може настати током жив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туљаст раст (детињство): сви делови тела се развијају пропорционално али је брзина развоја успорена. Панхипопитуитарни патуљак не пролази кроз пубертет, не секретује довољно гонадотропних хормона да би се развиле полне функције у одраслом пери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хипопитуитаризму, када постоји дефицит само хормона раста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е особе полно сазревају и могу имати потом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фрички Пигме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Леви-Лорен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y-Lorain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туљак: секреција GH је нормална али поремећај је на нивоу соматомедина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04920" y="6248520"/>
            <a:ext cx="472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рапија: хуманим хормоном раста, данас се успешно синтетише применом технологија рекомбинантне ДН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Datoteka:Marquardt &amp; Baka danc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09572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7880" y="68580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ПОСЛЕДИЦЕ ХИПЕРФУНКЦИЈЕ ХИПОФ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066680"/>
            <a:ext cx="8763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Гигантиза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: прекомерна секреција соматотропног хормона у случају ацидофилног тумора током раста и развоја (детињство), настаје убрзан и увећан раст, чак до 2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кромегалија: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ља се код прекомерна секреција соматотропног хормона у одраслом периоду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се епифизе затворе линеарни раст костију више није могућ. Повећана секреција хормона раста доводи до деформације костију и меких ткива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а многих унутрашњих органа се повећава. Кости шака и стопала се нарочито увећавају, као и мембранозне кости: кости лобање, носа и чела, супраорбитални лукови, доња вилица, делови кичменог стуба (настаје кифоза), ... садржај масти у телу се смањује, 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ржај протеина се повећа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04920" y="3809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228600" y="609480"/>
            <a:ext cx="868680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ЗАДЊИ РЕЖАЊ ХИПОФИЗЕ – НЕУРОХ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д већине сисара, неурохипофиза секретује два хорм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7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зопреси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диуретски хормон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(A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7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ситоц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мони задњег режња су нонапептид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 ак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 дисулфидним прстеном на једном крају. Грађа ових хормона је веома слична, разликују се само за две аминокисел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52280" y="3733920"/>
            <a:ext cx="8991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мони задњег режња хипофизе се синтетишу у супраоптичким и паравентрикуларним једрима хипоталамуса и транспортују се дуж аксона ових неурона до њихових завршетака у неурохипофизи, из којих се секретују. Неки неурони продукују окситоцин, а други вазопресин (или 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H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1066680"/>
            <a:ext cx="86868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ЕФЕКТИ ВАЗОПРЕСИНА (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зопресин (антидиуретски хормон) је снаж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зоконстри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Један од његових главних физиолошких ефеката је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тенција воде у бубрези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а се вазопресин често назива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иуретски хормон (АD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присуст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иуретског хормона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зопрес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ин постаје концентрован и његов волумен се смањуј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дсуству вазопресина урин је хипотоничан у односу на плазму, његов волумен се повећава и постоји нето губитак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04920" y="457200"/>
            <a:ext cx="861048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Arial"/>
              </a:rPr>
              <a:t>ЕФЕКТИ ОКСИТОЦ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хуманој популацији, окситоцин делује примар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јке и утерус, мада може да утиче и на лутеолиз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sr-CS" sz="1400" spc="-1" strike="noStrike">
                <a:solidFill>
                  <a:srgbClr val="0070c0"/>
                </a:solidFill>
                <a:latin typeface="Arial"/>
              </a:rPr>
              <a:t>РЕФЛЕКС ИСТИСКИВАЊА МЛЕКА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тоцин узрокује контракцију миоепителних ћел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је облажу каналиће млечних жлезда. На тај начин 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искује млеко из алвеола млечних жлезди у веће кана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нусе) и одатле изван кроз брадавице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јекција мл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искивање млека физиолошки покреће неуроендокри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флек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ДЕЈСТВ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НА НЕГРАВИДНИ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УТЕР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тоцин може такође да делује на неграви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ерус у олакшавању транспорта спер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ДЕЈСТВ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НА 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"/>
              </a:rPr>
              <a:t>vas defer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ја окситоцина у циркулацији се повећ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време ејакулације мушкарца и могуће је да ово узрок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ећање контракције глатких мишић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as deferens-а,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крећући сперму ка урет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457200" y="1447920"/>
            <a:ext cx="472428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ДЕЈСТВ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НА ПОРОЂАЈ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тоцин узрокује контракције глатких мишић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це. Осетљивост 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е на окситоци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ећавају естрогени, а инхибише прогестеро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а окситоцина 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ећава током порођаја успостављајући 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позитивну</a:t>
            </a:r>
            <a:r>
              <a:rPr b="0" i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повратну спре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ина окситоцина у плаз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је уобичајена на почетку порођ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када порођај почне, контракције утеруса дилатирају грлић и ова дилатација преноси сигнале на аферентне нерве што узрокује повећање секреције окситоцина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На тај начин се успоставља позитивна повратна спрега која потпомаже порођај и завршава се избацивањем пл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914880" y="0"/>
            <a:ext cx="22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ЕФЕКТИ ОКСИТОЦ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D:\Suzana\Ganong knjiga\Ganong slike\XXII POGLAVLjE\PNG\Gan024_Deo_22-24.png"/>
          <p:cNvPicPr/>
          <p:nvPr/>
        </p:nvPicPr>
        <p:blipFill>
          <a:blip r:embed="rId1"/>
          <a:stretch/>
        </p:blipFill>
        <p:spPr>
          <a:xfrm>
            <a:off x="5105520" y="1143000"/>
            <a:ext cx="381636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2992680" y="380880"/>
            <a:ext cx="35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ТИР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ОИДНА 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D:\Suzana\Ganong knjiga\Ganong slike\XIX POGLAVLjE\PNG\Gan024_Deo_19-01.png"/>
          <p:cNvPicPr/>
          <p:nvPr/>
        </p:nvPicPr>
        <p:blipFill>
          <a:blip r:embed="rId1"/>
          <a:stretch/>
        </p:blipFill>
        <p:spPr>
          <a:xfrm>
            <a:off x="5943600" y="1600200"/>
            <a:ext cx="3200400" cy="4221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6251040" y="586728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иреоидна жл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1600200"/>
            <a:ext cx="54104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еоидна жлезда има облик лептир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с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-20g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код одрасле особ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круж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хеју на предњој страни вра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нтетише главне</a:t>
            </a:r>
            <a:r>
              <a:rPr b="0" lang="ru-RU" sz="1800" spc="-1" strike="noStrike">
                <a:solidFill>
                  <a:srgbClr val="0e339a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ормон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 (Т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ријодтиронин (Т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eо штитасте жлезде, који производи хормоне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стоји се од мултиплих ацину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фоликула). Св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ферични фолику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0-30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је окружен једним слојем епителних ћелија и испуњен протеинским материјалом који се зове колоид. Колоид се углавном састоји од гликопротеина тиреоглобул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375280" y="83808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Физиоло</a:t>
            </a:r>
            <a:r>
              <a:rPr b="1" lang="sr-Latn-CS" sz="1800" spc="-1" strike="noStrike">
                <a:solidFill>
                  <a:srgbClr val="0070c0"/>
                </a:solidFill>
                <a:latin typeface="Times New Roman"/>
              </a:rPr>
              <a:t>ш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ка анатомија тиреоидне </a:t>
            </a:r>
            <a:r>
              <a:rPr b="1" lang="sr-Latn-CS" sz="1800" spc="-1" strike="noStrike">
                <a:solidFill>
                  <a:srgbClr val="0070c0"/>
                </a:solidFill>
                <a:latin typeface="Times New Roman"/>
              </a:rPr>
              <a:t>ж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152280" y="62485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e339a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e339a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e339a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e339a"/>
                </a:solidFill>
                <a:latin typeface="Arial"/>
              </a:rPr>
              <a:t>RT3: r</a:t>
            </a:r>
            <a:r>
              <a:rPr b="0" lang="ru-RU" sz="1200" spc="-1" strike="noStrike">
                <a:solidFill>
                  <a:srgbClr val="0e339a"/>
                </a:solidFill>
                <a:latin typeface="Arial"/>
              </a:rPr>
              <a:t>еверзни тријодтиронин се синтетише и добија у тиреоидеи (</a:t>
            </a:r>
            <a:r>
              <a:rPr b="0" lang="sr-CS" sz="1200" spc="-1" strike="noStrike">
                <a:solidFill>
                  <a:srgbClr val="0e339a"/>
                </a:solidFill>
                <a:latin typeface="Arial"/>
              </a:rPr>
              <a:t>у малој </a:t>
            </a:r>
            <a:r>
              <a:rPr b="0" lang="ru-RU" sz="1200" spc="-1" strike="noStrike">
                <a:solidFill>
                  <a:srgbClr val="0e339a"/>
                </a:solidFill>
                <a:latin typeface="Arial"/>
              </a:rPr>
              <a:t> количини) и периферним ткивима дејодинацијом </a:t>
            </a:r>
            <a:r>
              <a:rPr b="0" lang="sr-Latn-CS" sz="1200" spc="-1" strike="noStrike">
                <a:solidFill>
                  <a:srgbClr val="0e339a"/>
                </a:solidFill>
                <a:latin typeface="Arial"/>
              </a:rPr>
              <a:t>T</a:t>
            </a:r>
            <a:r>
              <a:rPr b="0" lang="sr-CS" sz="1200" spc="-1" strike="noStrike">
                <a:solidFill>
                  <a:srgbClr val="0e339a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152280" y="990720"/>
            <a:ext cx="50292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ИРЕОИДНИХ ХОРМ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хормон који се секретује из штитасте жлезде је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ирокс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тетрајодтиронин, Т4) (93%), има д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пол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вот у односу на Т3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Тријодтиронин</a:t>
            </a:r>
            <a:r>
              <a:rPr b="0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е синтетише у мањој количини (7%), има кр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пол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вот, али има већу биолошку активност у односу на Т4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тири пута је потентнији од Т4) а специфично се ствар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перифеним ткивима дејодинацијом из Т4. Наиме, скоро сва к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а тироксина се у ткивима претвара у тријодтиронин, па су у функционалном смислу оба хормона веома 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а хормона настају од аминокиселине тироз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52880" y="5638680"/>
            <a:ext cx="4191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а хормона су састављена 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10488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теза тиреоидних хорм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000560" y="0"/>
            <a:ext cx="21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ТИР</a:t>
            </a: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ОИДНА ЖЛ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04164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5562720" y="1066680"/>
            <a:ext cx="3200400" cy="464832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7" descr=""/>
          <p:cNvPicPr/>
          <p:nvPr/>
        </p:nvPicPr>
        <p:blipFill>
          <a:blip r:embed="rId1"/>
          <a:stretch/>
        </p:blipFill>
        <p:spPr>
          <a:xfrm>
            <a:off x="4457880" y="2819520"/>
            <a:ext cx="468612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17"/>
          <p:cNvSpPr/>
          <p:nvPr/>
        </p:nvSpPr>
        <p:spPr>
          <a:xfrm>
            <a:off x="9906120" y="43434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762120"/>
            <a:ext cx="91440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РЕГУЛАЦИЈА СЕКРЕЦИЈЕ ТИРЕОИДНЕ 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еоидну функцију првенствено регулише концентрација TSH у циркулацији, кога секретује аденохипофиза. TSH повећава све познате функције тиреоидне жлез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умани TSH је гликопротеин са временом полуживота од око 60 минута. Секретује се пулсатилно и достиже максимум 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но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0" y="2590920"/>
            <a:ext cx="5029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а TSH се повећава под утицајем хормона хипоталамуса а инхибишу га слободни Т3 и Т4 из циркулације дејством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негатив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вратне спре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хибишу стрес и глукокортикоиди, а код експерименталних животиња и деце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иреоидна термогене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повећава је хладноћа и смањује топ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5580000"/>
            <a:ext cx="426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лика: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егулација синтезе тиреоидних хормона (пример-Т4)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4 се секретује из тироидне жлезде као реакција на TSH. Слободни Т4 који се секретује из тироидне жлезде у циркулацију је у равнотежи са Т4 везаном у плазми и протеинима ткива. Слободан Т4 доводи до инхибиције </a:t>
            </a: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(плаве линије)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креције TSH у хипофиз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о и 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H из хипоталаму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8"/>
          <p:cNvSpPr/>
          <p:nvPr/>
        </p:nvSpPr>
        <p:spPr>
          <a:xfrm>
            <a:off x="7315200" y="5105520"/>
            <a:ext cx="152280" cy="4608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ight Arrow 9"/>
          <p:cNvSpPr/>
          <p:nvPr/>
        </p:nvSpPr>
        <p:spPr>
          <a:xfrm>
            <a:off x="7315200" y="5334120"/>
            <a:ext cx="152280" cy="4608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29480" y="0"/>
            <a:ext cx="24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ТИР</a:t>
            </a:r>
            <a:r>
              <a:rPr b="1" i="1" lang="en-US" sz="16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i="1" lang="sr-CS" sz="1600" spc="-1" strike="noStrike">
                <a:solidFill>
                  <a:srgbClr val="0070c0"/>
                </a:solidFill>
                <a:latin typeface="Arial"/>
              </a:rPr>
              <a:t>ОИДНА ЖЛЕ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95280" y="76212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изиолошки ефекти тиреоидних хорм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35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152280" y="5105520"/>
            <a:ext cx="883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Дејство на сексуалне функције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карц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: губитак либ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В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ак хормона: импотен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: губитак либида, менорагија (обилна менструација) и полименореја (учестале менструациј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В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ак хормона: олигоменореја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еђе менструације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до аменоре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рвни систе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(хемијска материја се ослобађа у синаптичку пукотину и делује локалн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(жлезде или специјализоване ћелије ослобађају специфичну супстанцу у крв и утичу на удаљене ћелије, тки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ендокрини систе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(нервна ћелија лучи специфичну супстанцу у крв и она утиче на удаљене ћелије, тки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крини систе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(ћелије луче специфичне супстанце у ванћелијски простор и делују на суседне ћелиј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крини систе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(ћелије луче специфичне супстанце у ванћелијски простор, које после делују на саму ту ћелију која их је излучил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--------------------------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ракрин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и сигнал је настао дејством специфичне супстанце у самој ћел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укстакрин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52280" y="5562720"/>
            <a:ext cx="8991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*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е ћелије поседују на екстрацелуларној страни мембране више фактора раста као што је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рансформишући Фактор Раста 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GFa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друге ћелије поседују TGFa рецепторе. Када се TGFa закачен за мембрану једне ћелије веже за TGFa рецептор друге ћелије, долази до њиховог повезивања. Значајно код локалних фокуса раста у ткив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384640" y="6858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Комуникацион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617920" y="45720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НАДБУБРЕЖНА 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D:\Suzana\Ganong knjiga\Ganong slike\XX POGLAVLjE\PNG\Gan024_Deo_20-01.png"/>
          <p:cNvPicPr/>
          <p:nvPr/>
        </p:nvPicPr>
        <p:blipFill>
          <a:blip r:embed="rId1"/>
          <a:stretch/>
        </p:blipFill>
        <p:spPr>
          <a:xfrm>
            <a:off x="5257800" y="1066680"/>
            <a:ext cx="3124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4800600" y="5442120"/>
            <a:ext cx="43434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ка хума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дбубрежне жлезде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киво коре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надбубрежних жлезда је жуто обојен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;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срж надбубрежних жлезда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је наранџасто обојена. Запазите да се надбубрежне жлезде налазе на горњим половима бубрега. Такође су приказана екстраадренална места (сиво обојено) на којима се понекад може наћи ткиво коре и сржи надбубрежних жлезд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52280" y="1752480"/>
            <a:ext cx="464832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дренал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зд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вака о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g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ртек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1944a3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инералокортикои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Гликокортикои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ндрогени хорм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у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захвата 2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0-3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ru-RU" sz="1800" spc="-1" strike="noStrike">
                <a:solidFill>
                  <a:srgbClr val="2f70bf"/>
                </a:solidFill>
                <a:latin typeface="Arial"/>
                <a:ea typeface="Arial"/>
              </a:rPr>
              <a:t>*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а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дбубрежне жлезд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: лучи г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ко 90% од укупног броја ћел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меду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и г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% од укупног броја ћел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еду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памин: тип ћелија које секретују допамин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је позна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13200" y="6324480"/>
            <a:ext cx="29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70b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2f70bf"/>
                </a:solidFill>
                <a:latin typeface="Arial"/>
                <a:ea typeface="Arial"/>
              </a:rPr>
              <a:t>**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 Гајтону око 20% а по Ганонгу 28%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85920" y="6095880"/>
            <a:ext cx="32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1944a3"/>
                </a:solidFill>
                <a:latin typeface="Arial"/>
                <a:ea typeface="Arial"/>
              </a:rPr>
              <a:t>*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о преко 30 стероидних хорм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ona glomeruloz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око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15% мас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адбубрежне жлез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, синте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 алдостерон, Секреција зависи углавном од ангиотензина I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јона кал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ију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ona fascikulat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ок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ас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адбубрежне жлез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, секретује гликокортикоиде кортизол и кортикостерон, и малу к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у адреналних андрогена, под контролом је адренокортикотропног хормона аденохипофиз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CT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ona retikularis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ок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%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ас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адбубрежне жлез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, синте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 адреналне андрогене: дехидроепиандростерон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HE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и андростендион, као и мале к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е естрогена и неких гликокортикоид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екретује се под контролом ACT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20480" y="609480"/>
            <a:ext cx="41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КОРА НАДБУБРЕ</a:t>
            </a:r>
            <a:r>
              <a:rPr b="1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Ж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НЕ </a:t>
            </a:r>
            <a:r>
              <a:rPr b="1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Ж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D:\Suzana\Ganong knjiga\Ganong slike\XX POGLAVLjE\PNG\Gan024_Deo_20-02.png"/>
          <p:cNvPicPr/>
          <p:nvPr/>
        </p:nvPicPr>
        <p:blipFill>
          <a:blip r:embed="rId1"/>
          <a:stretch/>
        </p:blipFill>
        <p:spPr>
          <a:xfrm>
            <a:off x="5084640" y="1219320"/>
            <a:ext cx="4059360" cy="4662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5105520" y="5979960"/>
            <a:ext cx="403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лика: </a:t>
            </a: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ресек надбубреж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лезде са приказом медуле и зона коре, као и хормона које секретуј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8310960" y="3505320"/>
            <a:ext cx="72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ндроген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3"/>
          <p:cNvCxnSpPr/>
          <p:nvPr/>
        </p:nvCxnSpPr>
        <p:spPr>
          <a:xfrm>
            <a:off x="8076960" y="3580920"/>
            <a:ext cx="229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</p:cxn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228600" y="1447920"/>
            <a:ext cx="86104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ЕФЕКТИ МИНЕРАЛОКОРТИКОИДА – </a:t>
            </a:r>
            <a:r>
              <a:rPr b="1" lang="sr-CS" sz="1800" spc="-1" strike="noStrike">
                <a:solidFill>
                  <a:srgbClr val="0070c0"/>
                </a:solidFill>
                <a:latin typeface="Arial"/>
              </a:rPr>
              <a:t>АЛДОСТ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Алдостер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руги минералокортикоиди повећавају реапсорпцију N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 урина, зноја, пљувачке и садржаја колона... а ретенција N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зрокује повећање запремине екстрацелуларне течности. У бубрезима, под утицајем алдостерона, веће количине N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 размењују за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 бубрежним тубулима, изазивајући повећану диурезу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овећану киселост урина.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фека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натријум хлорид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вање соли у тел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калијума и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секрециј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бикарбон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реапсорпција натријум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а самим тим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вод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(епител сабирних тубула и каналића бубрега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екреција калијума (доводи до хиперкалијемија ЕЦТ 60-100% изнад нормале: слабост с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е контракције, аритмија, отказивање срц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велике к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е т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сти из организма, хиповолемија, смањен минутни волумен срца, циркулаторни шок и смрт.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ве промене с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лом могу спречити повећањем уноса NaCl исхрано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инералокортикоиди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акут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п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вај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во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22200" y="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АЛДОСТЕ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90720" y="9907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Ефекат недостатка алдосте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 реапсорпција натријума и вод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 секреција калијума (хипокалијемија, м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ћна слабост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електр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надр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љивости мембрана и спр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но пре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ње акционих потенцијал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ње волумена екстр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лијске т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сти, хиперволемија, 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ње крвног притис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мицање алдостерону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sure diuresi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: повећање крвног притиска услед повећане реапсорпције натријума и воде доводи до повећане диурезе изазване притиском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вај феномен измицања настаје вероватно и због повећања секрециј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P-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522200" y="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АЛДОСТЕ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441440" y="99072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Ефекат повећане секреције алдосте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8640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јство кортизола на метаболизам угљених хидра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 г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онеогенез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мањено кор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ње глукозе у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лија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 концентрација глукозе у крви и “адренални дијабетес", последица је сма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и многих ткива (скелетни м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и масно ткиво) на инсул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600200" y="457200"/>
            <a:ext cx="6019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ФИЗИОЛОШК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ЕФЕКТ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ГЛУКОКОРТИК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КОРТИЗОЛ</a:t>
            </a: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80880" y="1600200"/>
            <a:ext cx="861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ако минералокортикоиди «акутно» спашавају живот, глукокортикоиди су важни за дуготрајно одржавање жив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2054160"/>
            <a:ext cx="864072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јство кортизола на метаболизам проте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мањење к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не протеина у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елијам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, тј. смањена је синтеза протеина а повећана њихова разградња у ћелији. (Када постоји изразити вишак кортизола, мишићи могу да постану тако слаби да човек не може да устане из чучећег положаја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ње к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е протеина у јетри и плаз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аст аминокиселина у крв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600200" y="685800"/>
            <a:ext cx="6019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ФИЗИОЛОШК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ЕФЕКТ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ГЛУКОКОРТИК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КОРТИЗОЛ</a:t>
            </a: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43912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јство кортизола на метаболизам ма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билизација масних киселина комбинована са 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ом оксидацијом масних киселина у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лијама пом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 да се за време гладовања, или неког другог стреса, метаб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и системи у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лијама преусмере од кор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ња глукозе за енергију ка кор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њу масти у исте сврх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јазност изазвана в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м кортизола: претерано нагомилавање масти у подр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ју грудног к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и главе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bufalo torzo " и округло лице " facies lunata“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600200" y="838080"/>
            <a:ext cx="6019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ФИЗИОЛОШК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ЕФЕКТ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ГЛУКОКОРТИК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КОРТИЗОЛ</a:t>
            </a: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ртизол је 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 за одупирање стресу и запаљењу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ре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ва развој запаљења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11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ртизол се по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о ослоб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у сл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ј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коро свих врста трау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Јаке топлот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хлад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њекције адреналин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других сим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тикомиме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Хиру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е интерв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отк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 ињекције некро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их матер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путавањ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вотиње, блокаде крета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ваке исцрпљу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е боле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52280" y="137160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с је било која промена у окружењу која мења или прети да промени постојеће стабилно стањ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28600" y="19810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ћина стресогених фактора повећава концентрацију АСТН (а тиме и глукокортикоида), и такође, активира симпатички нервни систем. Повећање секреције АСТН у стресним ситуацијама је готово искључиво посредовано хипоталамусом, прек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обађања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600200" y="533520"/>
            <a:ext cx="6019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ФИЗИОЛОШК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ЕФЕКТ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</a:rPr>
              <a:t>ГЛУКОКОРТИК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r>
              <a:rPr b="1" lang="sr-CS" sz="1800" spc="-1" strike="noStrike">
                <a:solidFill>
                  <a:srgbClr val="0070c0"/>
                </a:solidFill>
                <a:latin typeface="Arial"/>
                <a:ea typeface="Arial"/>
              </a:rPr>
              <a:t>ЕФЕКАТ СТРЕСА И ИНФЛАМАЦИЈЕ</a:t>
            </a:r>
            <a:r>
              <a:rPr b="1" lang="sr-Latn-CS" sz="1800" spc="-1" strike="noStrike">
                <a:solidFill>
                  <a:srgbClr val="0070c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28600" y="6165720"/>
            <a:ext cx="8839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ажња!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пасност код наглог прекида терапије </a:t>
            </a: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антиинфламаторним дозама глукокортикоида. Наиме, 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соке дозе егзогених глукокортикоида инхибишу секрецију АСТН до те мере, да уколико дође до наглог престанка терапије, може настати озбиљна </a:t>
            </a: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адренална инсуфицијенциј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2225520" y="228600"/>
            <a:ext cx="43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СЕКРЕЦИЈА ГЛ</a:t>
            </a:r>
            <a:r>
              <a:rPr b="1" lang="sr-CS" sz="2000" spc="-1" strike="noStrike">
                <a:solidFill>
                  <a:srgbClr val="0070c0"/>
                </a:solidFill>
                <a:latin typeface="Arial"/>
                <a:ea typeface="Arial"/>
              </a:rPr>
              <a:t>У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КОКОРТИКО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28600" y="762120"/>
            <a:ext cx="876312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ЦИРКАДИЈАЛНИ РИ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а АСТН се одвија у неправилним скоковима током дана, а концентрације кортизола у плазми теже да се повећају или смање у одговору на овакве скок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е АСТ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д људи, скокови у секрецији АСТН су најчешћи рано ујутру и око 75% количине кортизола у току дана излучи се управо у интервалу између 4 и 10 часова пре подне. Ова чињеница није повезана са стресом услед устајањ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јутр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то може деловати трауматич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зато што се повећање секреције АСТН дешава пре устајањ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D:\Suzana\Ganong knjiga\Ganong slike\XX POGLAVLjE\PNG\Gan024_Deo_20-15.png"/>
          <p:cNvPicPr/>
          <p:nvPr/>
        </p:nvPicPr>
        <p:blipFill>
          <a:blip r:embed="rId1"/>
          <a:stretch/>
        </p:blipFill>
        <p:spPr>
          <a:xfrm>
            <a:off x="2057400" y="2819520"/>
            <a:ext cx="4724280" cy="3138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0" y="6073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луктуације у концентрацији АСТН и глукокортикоида у плазми током дана, код здраве девојчице (узраста 16 годин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Хемијска структура и синтеза хормона</a:t>
            </a:r>
            <a:br>
              <a:rPr sz="2600"/>
            </a:b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(општа класификац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и пептиди </a:t>
            </a:r>
            <a:r>
              <a:rPr b="0" lang="ru-RU" sz="1600" spc="-1" strike="noStrike">
                <a:solidFill>
                  <a:srgbClr val="2f70bf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2f70b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предњи и задњи режањ хипофизе, панкреас, паратиреоидна жлез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ероидни хормони </a:t>
            </a:r>
            <a:r>
              <a:rPr b="0" lang="ru-RU" sz="1600" spc="-1" strike="noStrike">
                <a:solidFill>
                  <a:srgbClr val="2f70bf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2f70b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алдостерон и кортизол, естроген, прогестер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мини </a:t>
            </a:r>
            <a:r>
              <a:rPr b="0" lang="ru-RU" sz="1600" spc="-1" strike="noStrike">
                <a:solidFill>
                  <a:srgbClr val="2f70bf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ривати аминокиселине тироз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тиреоидни хормони, адреналин и норадренали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еривати аминокиселине триптоф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отонин и мелатон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52280" y="6019200"/>
            <a:ext cx="883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70bf"/>
                </a:solidFill>
                <a:latin typeface="Arial"/>
                <a:ea typeface="Arial"/>
              </a:rPr>
              <a:t>*</a:t>
            </a:r>
            <a:r>
              <a:rPr b="0" lang="ru-RU" sz="16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хормо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специфични молеку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бијени из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них кисели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икосаноиди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простагланди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стацикли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тромбоксани и леукотрие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00400" y="1600200"/>
            <a:ext cx="5715000" cy="4191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6005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380880" y="685800"/>
            <a:ext cx="8534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Барет КЕ, Бојтано С, Барман СМ, Брукс ХЛ. Ганонгов преглед медицинске физиологије, 24. америчко издањ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, прв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рпско издањ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гл.уредник Јаковљевић В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 и Донвас агенција за маркетинг, издаваштво и трговину књигама. 2015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BN: 978-86-7760-102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uyton &amp; Hall. Textbook of Medical Physiology, XI edition, Elsevier Inc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adelphia, Pennsylva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USA. 2006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Edition ISBN 0-8089-2317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28600" y="380880"/>
            <a:ext cx="8763120" cy="60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СЕКРЕ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так лучења хормона, након дејства специфичног сигнала, код неких хормона може да наступи одмах по стимулацији. То је случај са катехоламинима који развијају пуно дејство у току неколико секунди и минута. Други хормони (хормон раста, тиреоидни хормони...) своје пуно дејство остварују у наредним месецима након што су излуч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ција многих хорм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ептиди/протеини, катехоламини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 одвија процесом егзоцитозе из секреторних грану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су депонован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о се дешава након активације специфичним сигн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Други хормони (нпр. стероидни) се не складиште након синтезе, већ по формирању континуирано излазе из ћел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ји разлика у секрецији хормона који се складиште и хормона који се континуирано ослобађају дифузијом (стероиди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томе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трола секреције дефинитивних молеку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виј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ом кинетике ензима који учествују у њиховој синтези или носача који су укључени у њихову продукциј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7876080" y="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70c0"/>
                </a:solidFill>
                <a:latin typeface="Arial"/>
              </a:rPr>
              <a:t>СЕКРЕ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28600" y="685800"/>
            <a:ext cx="876312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датну комплексност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рецији хормона представља чињеница да се поједини хормони луче пулсатилн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 складу са циркадијалним ритмом, као одговор на оброке, или као одговор на друге факторе чија се периодичност може мерити милисекундама или годинам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икличне варијације хормонског лучењ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могу б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17136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иркадијални ритам (дневни/ноћ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85760" indent="-17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Диурнални (организам активан дањ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85760" indent="-17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Ноктурнални (организам активан ноћ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17136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радијални ритам (циклус дужи од дневног, нпр менструал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17136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традијални ритам (циклус краћи од дневног, нпр соматотропни хорм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лсатилна секреција је често повезана са осцилаторном активношћу хипоталамуса, што доводи до наглог лучења веће количине ослобађајућих  хормона у хипофизни портални крвоток, а следствено томе и ослобађање специфичних хормона из хипофизе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а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њима стимулисаних специфичних хормона, на сличан пулсатилни нач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терапијском смислу, пулсатилној секрецији треба посветити посебну пажњу када се врши надокнада хоромона у случају недостатка неког појединачног хормона, а који се нормално секретује на овај на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057400" y="6858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ac"/>
                </a:solidFill>
                <a:latin typeface="Arial"/>
              </a:rPr>
              <a:t>ТРАНСПОРТ ХОРМОНА ПУТЕМ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0880" y="1447920"/>
            <a:ext cx="8534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мони растворљиви у води (пептиди, катехоламини), растворени су у плазми, преносе се циркулацијом од места синтезе до циљних ткива, где дифундују из капилара у интерстицијум и стижу до циљ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роидни и тиреоидни хормони се налазе у крви претежно везани за протеине плазме (мање  од 10% ових хормона с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лободно у раствору). Хормони везани за протеине (тј. носаче, транспортере) с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иолошки неакт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е док се не одвоје од протеина плазме. То везив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пор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њихов клиренс из плазме и представљ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ервоа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активног облика хормо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кога се попуњава концентрација слободних хормон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 слободни хормони су биолошки акт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 хормона у циркулишућој крви је веома мала и мери се у пикограмима и микрограмим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pg 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) ml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рви до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) 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рајање д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ј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једи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хормон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је веома различи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и адреналин: неколико секунди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колик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у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 и хормон раста: до неколико месе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16160" y="6858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КОНЦЕНТРАЦИЈА ХОРМОНА У КР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8:26:51Z</dcterms:created>
  <dc:creator>Suzana Pantovic</dc:creator>
  <dc:description/>
  <dc:language>en-US</dc:language>
  <cp:lastModifiedBy>SP</cp:lastModifiedBy>
  <dcterms:modified xsi:type="dcterms:W3CDTF">2019-11-22T09:18:53Z</dcterms:modified>
  <cp:revision>1212</cp:revision>
  <dc:subject/>
  <dc:title>Факултет медицинских наука у Крагујевцу Интегрисане академске студије фармације Катедра за Физиологију</dc:title>
</cp:coreProperties>
</file>